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14C7-D9C6-48F6-8395-DEBCEAE0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2A2-DD9D-494E-ADE7-5BF67A23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9345-192B-4AA1-ACA6-BB63CCB9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27A-0FD6-45C8-8C39-C9B92288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48F2-5BC1-4479-92F5-D8122B33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DF72-DF97-4549-B2B2-9CF16FEB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C01D-B428-4FB2-884B-91D826F7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5A3A-F046-47D7-8180-A1536973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4653-42CE-4C2D-92BA-C692C46F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90B4-4C58-46FE-9A81-C96DFE29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4ED6-A3DE-4A60-AD55-47DF8C99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A88-4D66-48AE-B90E-B99EB591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3E61-7419-4518-8C51-C1A1CDFF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B215-7727-481C-ACB9-B16A9521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76C4-79A4-4D6E-BE79-048BAB12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6A11-0F78-40FA-A034-395F1AB2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383A-03A3-494A-8026-B46BEFCE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B41-35DB-41A2-88DC-E048F7BF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3D3-E2E1-4E24-B63C-59274BEA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CF3D-CAE7-462B-A8AF-71DCFF16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B57A-336A-43DD-8DB2-501BA269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BEB3-B715-428D-B798-A76D72A7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4A5-83B8-4B9F-8FDE-57C65D8E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8EAF-85AF-42C9-9452-3300E83E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8E06-75A0-4AF2-8FAB-2D2908B48DA6}" type="datetime">
              <a:rPr b="0" lang="ja-JP" sz="1400" spc="-1" strike="noStrike">
                <a:solidFill>
                  <a:srgbClr val="800000"/>
                </a:solidFill>
                <a:latin typeface="Times New Roman"/>
              </a:rPr>
              <a:t>26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5CF4-BD1D-4C09-A3CD-A280ECD1398D}" type="slidenum">
              <a:rPr b="0" lang="ja-JP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F669-F949-4A08-9C34-B2320A80C7C8}" type="datetime">
              <a:rPr b="0" lang="ja-JP" sz="1400" spc="-1" strike="noStrike">
                <a:solidFill>
                  <a:srgbClr val="800000"/>
                </a:solidFill>
                <a:latin typeface="Times New Roman"/>
              </a:rPr>
              <a:t>26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DBBF-7E68-464C-A045-97C3D34B1E83}" type="slidenum">
              <a:rPr b="0" lang="ja-JP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  <a:ea typeface="KF-GB YaSong"/>
              </a:rPr>
              <a:t>功欲善其事，必先利其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038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Times New Roman"/>
              </a:rPr>
              <a:t>庭からパラボラアンテナの背面を見たもの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Times New Roman"/>
              </a:rPr>
              <a:t>左から直径</a:t>
            </a:r>
            <a:r>
              <a:rPr b="0" lang="ja-JP" sz="2800" spc="-1" strike="noStrike">
                <a:solidFill>
                  <a:srgbClr val="003366"/>
                </a:solidFill>
                <a:latin typeface="Times New Roman"/>
              </a:rPr>
              <a:t>3.6</a:t>
            </a:r>
            <a:r>
              <a:rPr b="0" lang="ja-JP" sz="2800" spc="-1" strike="noStrike">
                <a:solidFill>
                  <a:srgbClr val="003366"/>
                </a:solidFill>
                <a:latin typeface="Times New Roman"/>
              </a:rPr>
              <a:t>ｍ・</a:t>
            </a:r>
            <a:r>
              <a:rPr b="0" lang="ja-JP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ja-JP" sz="2800" spc="-1" strike="noStrike">
                <a:solidFill>
                  <a:srgbClr val="003366"/>
                </a:solidFill>
                <a:latin typeface="Times New Roman"/>
              </a:rPr>
              <a:t>ｍ・</a:t>
            </a:r>
            <a:r>
              <a:rPr b="0" lang="ja-JP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ja-JP" sz="2800" spc="-1" strike="noStrike">
                <a:solidFill>
                  <a:srgbClr val="003366"/>
                </a:solidFill>
                <a:latin typeface="Times New Roman"/>
              </a:rPr>
              <a:t>ｍの三本が見える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Times New Roman"/>
              </a:rPr>
              <a:t>庭の西側に集中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Times New Roman"/>
              </a:rPr>
              <a:t>向こう側は学校です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1" name="DSCF0084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603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4E8A-49B7-45C7-8B22-DD52F77492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  <a:ea typeface="宋体"/>
              </a:rPr>
              <a:t>《平安夜》</a:t>
            </a:r>
            <a:r>
              <a:rPr b="0" lang="ja-JP" sz="4400" spc="-1" strike="noStrike">
                <a:solidFill>
                  <a:srgbClr val="003366"/>
                </a:solidFill>
                <a:latin typeface="宋体"/>
              </a:rPr>
              <a:t>①</a:t>
            </a:r>
            <a:r>
              <a:rPr b="0" lang="ja-JP" sz="4400" spc="-1" strike="noStrike">
                <a:solidFill>
                  <a:srgbClr val="003366"/>
                </a:solidFill>
                <a:latin typeface="宋体"/>
              </a:rPr>
              <a:t>-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16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66"/>
                </a:solidFill>
                <a:latin typeface="Times New Roman"/>
                <a:ea typeface="KF-GB Gothic UB"/>
              </a:rPr>
              <a:t>平安夜，圣善夜，天使唱哈利路亚，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6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66"/>
                </a:solidFill>
                <a:latin typeface="Times New Roman"/>
                <a:ea typeface="KF-GB Gothic UB"/>
              </a:rPr>
              <a:t>哈利路亚！主降生，主降生！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859-7993-4414-B39D-95B73A828C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  <a:ea typeface="宋体"/>
              </a:rPr>
              <a:t>第一课  去中国旅游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  <a:ea typeface="宋体"/>
              </a:rPr>
              <a:t>A</a:t>
            </a:r>
            <a:r>
              <a:rPr b="0" lang="en-US" sz="6000" spc="-1" strike="noStrike">
                <a:solidFill>
                  <a:srgbClr val="003366"/>
                </a:solidFill>
                <a:latin typeface="Century"/>
                <a:ea typeface="宋体"/>
              </a:rPr>
              <a:t>∶</a:t>
            </a:r>
            <a:r>
              <a:rPr b="0" lang="zh-CN" sz="6000" spc="-1" strike="noStrike">
                <a:solidFill>
                  <a:srgbClr val="003366"/>
                </a:solidFill>
                <a:latin typeface="Century"/>
                <a:ea typeface="宋体"/>
              </a:rPr>
              <a:t>听说最近去中国旅游的日本人特多，铃木先生，你也去了不少次了吧</a:t>
            </a:r>
            <a:r>
              <a:rPr b="0" lang="zh-CN" sz="6000" spc="-1" strike="noStrike">
                <a:solidFill>
                  <a:srgbClr val="003366"/>
                </a:solidFill>
                <a:latin typeface="Times New Roman"/>
                <a:ea typeface="宋体"/>
              </a:rPr>
              <a:t>?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9228-43A4-4C7E-8D11-5945F2E5BF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Times New Roman"/>
              </a:rPr>
              <a:t>第一課　中国への観光旅行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宋体"/>
              </a:rPr>
              <a:t>A</a:t>
            </a:r>
            <a:r>
              <a:rPr b="0" lang="en-US" sz="4000" spc="-1" strike="noStrike">
                <a:solidFill>
                  <a:srgbClr val="003366"/>
                </a:solidFill>
                <a:latin typeface="Century"/>
                <a:ea typeface="宋体"/>
              </a:rPr>
              <a:t>∶</a:t>
            </a:r>
            <a:r>
              <a:rPr b="0" lang="ja-JP" sz="4000" spc="-1" strike="noStrike">
                <a:solidFill>
                  <a:srgbClr val="003366"/>
                </a:solidFill>
                <a:latin typeface="Century"/>
              </a:rPr>
              <a:t>この頃中国へ観光旅行に行く日本人はとても多いようですね。鈴木さん、貴方も何回もいらっしゃってるのでしょう。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6E9-1CCF-47C3-96BB-DDCDFC278F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  <a:ea typeface="KF-GB YaSong"/>
              </a:rPr>
              <a:t>功欲善其事，必先利其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514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Times New Roman"/>
              </a:rPr>
              <a:t>予備の</a:t>
            </a:r>
            <a:r>
              <a:rPr b="0" lang="ja-JP" sz="2400" spc="-1" strike="noStrike">
                <a:solidFill>
                  <a:srgbClr val="003366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Times New Roman"/>
              </a:rPr>
              <a:t>上二台は</a:t>
            </a:r>
            <a:r>
              <a:rPr b="0" lang="ja-JP" sz="2400" spc="-1" strike="noStrike">
                <a:solidFill>
                  <a:srgbClr val="003366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Times New Roman"/>
              </a:rPr>
              <a:t>下一台は</a:t>
            </a:r>
            <a:r>
              <a:rPr b="0" lang="ja-JP" sz="2400" spc="-1" strike="noStrike">
                <a:solidFill>
                  <a:srgbClr val="003366"/>
                </a:solidFill>
                <a:latin typeface="Times New Roman"/>
              </a:rPr>
              <a:t>DOS</a:t>
            </a:r>
            <a:r>
              <a:rPr b="0" lang="ja-JP" sz="2400" spc="-1" strike="noStrike">
                <a:solidFill>
                  <a:srgbClr val="003366"/>
                </a:solidFill>
                <a:latin typeface="Times New Roman"/>
              </a:rPr>
              <a:t>機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Times New Roman"/>
              </a:rPr>
              <a:t>隣のディスプレイは</a:t>
            </a:r>
            <a:r>
              <a:rPr b="0" lang="ja-JP" sz="2400" spc="-1" strike="noStrike">
                <a:solidFill>
                  <a:srgbClr val="003366"/>
                </a:solidFill>
                <a:latin typeface="Times New Roman"/>
              </a:rPr>
              <a:t>DOS</a:t>
            </a:r>
            <a:r>
              <a:rPr b="0" lang="ja-JP" sz="2400" spc="-1" strike="noStrike">
                <a:solidFill>
                  <a:srgbClr val="003366"/>
                </a:solidFill>
                <a:latin typeface="Times New Roman"/>
              </a:rPr>
              <a:t>機専用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DSCF0081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603680" cy="426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5D4B-1DC0-4845-BE9E-8C7AB88428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  <a:ea typeface="KF-GB YaSong"/>
              </a:rPr>
              <a:t>功欲善其事，必先利其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Times New Roman"/>
              </a:rPr>
              <a:t>書斎一番の働きもの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Times New Roman"/>
              </a:rPr>
              <a:t>コピ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Times New Roman"/>
              </a:rPr>
              <a:t>プリンタ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Times New Roman"/>
              </a:rPr>
              <a:t>ファックス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Times New Roman"/>
              </a:rPr>
              <a:t>スキャナ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Times New Roman"/>
              </a:rPr>
              <a:t>複合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7" name="DSCF0067" descr=""/>
          <p:cNvPicPr/>
          <p:nvPr/>
        </p:nvPicPr>
        <p:blipFill>
          <a:blip r:embed="rId1"/>
          <a:stretch/>
        </p:blipFill>
        <p:spPr>
          <a:xfrm>
            <a:off x="3581280" y="2514600"/>
            <a:ext cx="556272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97B-D441-495D-8CA6-1F535062B4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Times New Roman"/>
              </a:rPr>
              <a:t>大きなかぶ・</a:t>
            </a:r>
            <a:r>
              <a:rPr b="1" lang="ja-JP" sz="4400" spc="-1" strike="noStrike">
                <a:solidFill>
                  <a:srgbClr val="003366"/>
                </a:solidFill>
                <a:latin typeface="CW-GB Mincho UB"/>
                <a:ea typeface="CW-GB Mincho UB"/>
              </a:rPr>
              <a:t>偉寄腿卸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</a:rPr>
              <a:t>おじいさんが、かぶのたねを　まきました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Times New Roman"/>
                <a:ea typeface="CW-GB Mincho UB"/>
              </a:rPr>
              <a:t>勵勵</a:t>
            </a: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CW-GB Mincho UB"/>
              </a:rPr>
              <a:t>壓</a:t>
            </a:r>
            <a:r>
              <a:rPr b="0" lang="zh-TW" sz="3200" spc="-1" strike="noStrike">
                <a:solidFill>
                  <a:srgbClr val="003366"/>
                </a:solidFill>
                <a:latin typeface="Times New Roman"/>
                <a:ea typeface="CW-GB Mincho UB"/>
              </a:rPr>
              <a:t>弥戦嶽阻腿卸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E6E-B6CD-4B42-A7B7-925E6F74A25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Times New Roman"/>
              </a:rPr>
              <a:t>大きなかぶ・</a:t>
            </a:r>
            <a:r>
              <a:rPr b="1" lang="ja-JP" sz="4400" spc="-1" strike="noStrike">
                <a:solidFill>
                  <a:srgbClr val="003366"/>
                </a:solidFill>
                <a:latin typeface="CW-GB Mincho UB"/>
                <a:ea typeface="CW-GB Mincho UB"/>
              </a:rPr>
              <a:t>偉寄腿卸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</a:rPr>
              <a:t>「あまい　あまい　かぶになれ。大きな　大きなかぶに　なれ。」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Times New Roman"/>
                <a:ea typeface="CW-GB Mincho UB"/>
              </a:rPr>
              <a:t>耽爺公腿卸茅課十邦扮，勵勵悳頁澡廷彭：“酔泣隅海寄，酔泣隅海寄！撹海撹葎嗽寄嗽矢、嗽邦巣隅議寄腿卸！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F56-95CC-4DD1-B19D-916B0FADF7E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Times New Roman"/>
              </a:rPr>
              <a:t>大きなかぶ・</a:t>
            </a:r>
            <a:r>
              <a:rPr b="1" lang="ja-JP" sz="4400" spc="-1" strike="noStrike">
                <a:solidFill>
                  <a:srgbClr val="003366"/>
                </a:solidFill>
                <a:latin typeface="CW-GB Mincho UB"/>
                <a:ea typeface="CW-GB Mincho UB"/>
              </a:rPr>
              <a:t>偉寄腿卸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</a:rPr>
              <a:t>あまい　あまい、大きな　大きな　かぶに　なりました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Times New Roman"/>
                <a:ea typeface="CW-GB Mincho UB"/>
              </a:rPr>
              <a:t>壓勵勵議娼伉硯圄和，狛阻乂晩徨參朔，腿卸海寄阻｡</a:t>
            </a: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CW-GB Mincho UB"/>
              </a:rPr>
              <a:t>腿卸延誼嗽寄嗽矢、嗽邦巣隅｡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9007-A2D4-4D5E-A596-84011CC67B8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Century"/>
                <a:ea typeface="SimHei"/>
              </a:rPr>
              <a:t>歌唱祖国</a:t>
            </a:r>
            <a:r>
              <a:rPr b="0" lang="ja-JP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621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1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宋体"/>
                <a:ea typeface="KF-GB Gothic UB"/>
              </a:rPr>
              <a:t>五星红旗，迎风飘扬，胜利歌声多么响亮，歌唱我们亲爱的祖国，从今走向繁荣富强</a:t>
            </a:r>
            <a:r>
              <a:rPr b="0" lang="ja-JP" sz="5400" spc="-1" strike="noStrike">
                <a:solidFill>
                  <a:srgbClr val="003366"/>
                </a:solidFill>
                <a:latin typeface="宋体"/>
                <a:ea typeface="KF-GB Gothic UB"/>
              </a:rPr>
              <a:t>。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71FD-6572-4002-9DFD-F092D1BD00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Century"/>
                <a:ea typeface="SimHei"/>
              </a:rPr>
              <a:t>歌唱祖国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</a:rPr>
              <a:t>1</a:t>
            </a:r>
            <a:r>
              <a:rPr b="0" lang="ja-JP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宋体"/>
                <a:ea typeface="KF-GB Gothic UB"/>
              </a:rPr>
              <a:t>越过高山，越过平原，跨过奔腾的黄河长江，宽广美丽的土地，是我们亲爱的家乡，英雄的人民，站起来了，我们团结友爱坚强如钢</a:t>
            </a:r>
            <a:r>
              <a:rPr b="0" lang="ja-JP" sz="5400" spc="-1" strike="noStrike">
                <a:solidFill>
                  <a:srgbClr val="003366"/>
                </a:solidFill>
                <a:latin typeface="宋体"/>
                <a:ea typeface="KF-GB Gothic UB"/>
              </a:rPr>
              <a:t>。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68F-18F0-4F2C-B14F-CF3E14B8C7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  <a:ea typeface="宋体"/>
              </a:rPr>
              <a:t>《平安夜》</a:t>
            </a:r>
            <a:r>
              <a:rPr b="0" lang="ja-JP" sz="4400" spc="-1" strike="noStrike">
                <a:solidFill>
                  <a:srgbClr val="003366"/>
                </a:solidFill>
                <a:latin typeface="宋体"/>
              </a:rPr>
              <a:t>①</a:t>
            </a:r>
            <a:r>
              <a:rPr b="0" lang="ja-JP" sz="4400" spc="-1" strike="noStrike">
                <a:solidFill>
                  <a:srgbClr val="003366"/>
                </a:solidFill>
                <a:latin typeface="宋体"/>
              </a:rPr>
              <a:t>-1</a:t>
            </a:r>
            <a:r>
              <a:rPr b="0" lang="ja-JP" sz="4400" spc="-1" strike="noStrike">
                <a:solidFill>
                  <a:srgbClr val="003366"/>
                </a:solidFill>
                <a:latin typeface="宋体"/>
                <a:ea typeface="宋体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Times New Roman"/>
                <a:ea typeface="KF-GB Gothic UB"/>
              </a:rPr>
              <a:t>平安夜，圣善夜，昏暗中，光华射，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Times New Roman"/>
                <a:ea typeface="KF-GB Gothic UB"/>
              </a:rPr>
              <a:t>照着圣母也照着圣婴，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Times New Roman"/>
                <a:ea typeface="KF-GB Gothic UB"/>
              </a:rPr>
              <a:t>多少慈祥也多少天真，静享天赐安眠，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CC3-3C7F-4543-ADB8-8AAB210ABD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5:45:40Z</dcterms:created>
  <dc:creator>藤本　恒</dc:creator>
  <dc:description/>
  <dc:language>en-US</dc:language>
  <cp:lastModifiedBy>anakui</cp:lastModifiedBy>
  <dcterms:modified xsi:type="dcterms:W3CDTF">2004-08-05T04:49:53Z</dcterms:modified>
  <cp:revision>18</cp:revision>
  <dc:subject/>
  <dc:title>PowerPoint プレゼンテーション</dc:title>
</cp:coreProperties>
</file>